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13EA-5936-4F52-9BD4-691B80931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CCEB-F432-4CBC-B117-8BFBE3A3144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Notes Placeholder 7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chlieph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5FBA-7CC2-4C07-9DC2-828B7B1217E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7AE-C790-46FF-9350-03057861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05A-3F70-4AD6-81B5-2FC33CAC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9D4-A419-46EE-B975-2F330FE5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BA2-9D46-4258-A338-0AB5402C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13D3-B07D-4A03-8F96-FBCDDCC8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B84B-71A8-4B2C-9F15-76851B1F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412F-C0D0-4ECF-933F-86AC67A8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5EE1-0FDA-4395-A6EB-99BB2C23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6106-2855-440C-9269-865E132D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40F5-209A-4EAF-8788-2A5247BC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5D1-F923-4190-B25B-B598A20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654-8A2C-4CE3-96D0-A05D7882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E811-3D0D-4955-B300-75E20DFC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C265-332C-47B9-8F1C-E2D9977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FB5A-F89B-4991-8CFC-847BB944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1F1C-1A4D-4444-88AA-A89B549B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7063-3A9D-4B3A-A8DD-C3A36109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20F9-2915-4419-8BB0-6F8059DE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AA29-8E88-48F1-8E49-2DF6A5B3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3C8F7-1BB1-4D48-9AFA-64D8E15B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88D4-1215-40F8-A57E-3734C4FC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630E-E9E1-4E41-952D-167B4F58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EC9-9882-4B57-BEA8-412A3C62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7D3F-9F63-419C-AF68-099058F4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010D-66A5-42D4-832C-21B20D16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6B54-903D-4853-8256-2EC3242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BBF0-3D83-40BC-9301-2D206FA8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9195-778B-4D7A-B73F-8A3E452C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98DB-B74A-4E1A-9F83-56EA53C6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3297-00B1-4149-81F9-C554D3C9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5DE-A47D-495E-A24E-71CD0BF0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617-4E44-482A-9027-CD8BBC57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AB1-845F-4933-B9B7-D148AA73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C29-51A6-494A-9D99-ADFF37AB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B04-7834-4F1B-A0A7-EBAAC5FB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632-1A3A-4E96-8D8E-EBC401AD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055F-C348-454E-8602-E1ED0EE73E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C91C-AABE-4CC6-8B59-CC42638C0E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4FF4-B9C1-416A-ACE9-04EA384C336D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рактериш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ме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нзитет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авц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е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рија ендогених опиои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ојај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ге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истем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изањ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гетск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фек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ецептори:м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ап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л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слобађај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кефал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рф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инорфин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оператив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рођај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меноре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 и О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опатски бол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постехерпетични, неуралгија н.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V,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М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де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ампутацион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гина пектор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Ep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Sinus carotic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равидни утеру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штећена кож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редњ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терферент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mec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нусоидно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дулиса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уск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оризонтална терап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р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усоидал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иск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фреквенц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перпози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рферен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редњефреквентни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мостал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ио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а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зите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зличит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онент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ли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емец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в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стант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40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ријабил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3900-4100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-10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тел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5029200" y="4876920"/>
            <a:ext cx="3809880" cy="1014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8098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гмент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ед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нглиотроп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ндар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ку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пециј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вор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Биолошк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e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фект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рв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зазивајућ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азодилатацију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крвљеност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игенациј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дстрањив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окси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дијато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бог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ген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ерв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вршетк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већ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драж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провод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ериферних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ерав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нхиби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импатикус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арасимпатикус (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AcH,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огућ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руг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хемиј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атериј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т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убрз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лимф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змен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лектролит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осебн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тр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ц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де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бољш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трофик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ир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доредукцио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цес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раст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варање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лус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фракту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ењ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pH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редн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лкалност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тиинфлама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брзав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преч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ругаст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глат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ишић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лакн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изиолош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фек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контракција миши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90-100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налгетски и симпатиколитичк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ктивна хиперемија, метаболизам и елиминација токсичних продуката; антиедема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6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стимулативно деловање на регенерацију повређених нерава, мишића, кости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const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 симпатиколитичк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ач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бјектив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јагноз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5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3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ограниче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офреквент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51604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арадск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анскута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лектрич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урал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Н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ту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тор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кс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шта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лом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сеудо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Sudeck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ервик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мб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дро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итис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ред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живаца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итис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echtere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w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HS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urger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Raunauyd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компенз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талних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рган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удно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омбофлебит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лигните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инусоид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одулиса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у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сногорд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969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0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10-1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1143000" y="3886200"/>
            <a:ext cx="39625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0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.000 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с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89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в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пис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'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рсонвал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892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спитив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т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овеч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рганиза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gelschmit 1908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атерми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Шта је дијатермија?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42720" y="1523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Употреба нејонизујуће електромагнетне енергије из радио-фреквенцијског спектра као терап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ског сред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-17640" y="2819520"/>
            <a:ext cx="9179280" cy="3809880"/>
          </a:xfrm>
          <a:prstGeom prst="rect">
            <a:avLst/>
          </a:prstGeom>
          <a:ln w="0">
            <a:noFill/>
          </a:ln>
        </p:spPr>
      </p:pic>
      <p:sp>
        <p:nvSpPr>
          <p:cNvPr id="229" name="Oval 7"/>
          <p:cNvSpPr/>
          <p:nvPr/>
        </p:nvSpPr>
        <p:spPr>
          <a:xfrm>
            <a:off x="144792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342900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2362320" y="5486400"/>
            <a:ext cx="76176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ва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a VFS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представља електромагнетну енергиј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ко проводника-ЕМП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оз проводник електрична 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 ће поље превагнути зависи од фреквенци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таласне дужине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467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Нормалан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распоред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дипол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молекул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ганизм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њихов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јентациј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сређеност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ндензаторском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л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6" descr="KTD1"/>
          <p:cNvPicPr/>
          <p:nvPr/>
        </p:nvPicPr>
        <p:blipFill>
          <a:blip r:embed="rId1"/>
          <a:stretch/>
        </p:blipFill>
        <p:spPr>
          <a:xfrm>
            <a:off x="1219320" y="1984320"/>
            <a:ext cx="63244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953240" cy="34290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 Lenn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в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тавље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ла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ум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перимен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каз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ред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ст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ss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раф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ип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л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N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б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мулз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иж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мперату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злоз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рње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р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chi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лбум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еланц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гул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55-57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е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упатил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62-64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рад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6252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еј 1831. годин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асиметрија, ирегуларност циклус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о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ара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лед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изменич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ласич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762120" y="1904760"/>
            <a:ext cx="4038120" cy="4525920"/>
            <a:chOff x="762120" y="1904760"/>
            <a:chExt cx="4038120" cy="4525920"/>
          </a:xfrm>
        </p:grpSpPr>
        <p:sp>
          <p:nvSpPr>
            <p:cNvPr id="149" name="Line 7"/>
            <p:cNvSpPr/>
            <p:nvPr/>
          </p:nvSpPr>
          <p:spPr>
            <a:xfrm>
              <a:off x="798480" y="4642200"/>
              <a:ext cx="40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 flipV="1">
              <a:off x="762120" y="1919880"/>
              <a:ext cx="0" cy="25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 flipV="1">
              <a:off x="762840" y="1904760"/>
              <a:ext cx="0" cy="265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939600" y="3164400"/>
              <a:ext cx="376560" cy="2436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1426320" y="2350440"/>
              <a:ext cx="170280" cy="3302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2760120" y="3055680"/>
              <a:ext cx="437040" cy="249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1818360" y="3231720"/>
              <a:ext cx="345240" cy="2351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2368080" y="2703240"/>
              <a:ext cx="232920" cy="3727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кна хлеба се пресече на три дела и између њих се ставе изолаторске плоче. Када се на крајевима векне укључи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T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унутрашњи део векне има 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, а спољашњи делови 60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. Ако укључимо у коло К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-а, температура у сва три дела векне ће бити ист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изменич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руј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фреквенци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100 000 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специфични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термотерапи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квир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г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тварањем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ff0000"/>
                </a:solidFill>
                <a:latin typeface="Times New Roman"/>
              </a:rPr>
              <a:t>конверзијом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 апсорбова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e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лектромагнет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нергије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воре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чин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м</a:t>
            </a: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топлот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ми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азлик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гзоге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елу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пољ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ж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екундар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азодилататор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рв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сте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датив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шић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лаксац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езив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ећ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егљивос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нзимск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остатичк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цид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дел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'Arsonvalizacija (1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</a:t>
            </a: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gotalasna dijatermija (500.000 - 1.0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ratkotalasna dijatermija (KTD) 10-100 M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ltrakaratkotalasna dijatermija (434,78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ikrotalasna dijatermija (2.450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алас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жи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2,12 m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1,06 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3,56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7,1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МПУЛС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962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пар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енераторск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едносмерн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и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т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шет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торн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сок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цијентов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Електроде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за дијатермиј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71240" y="2666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во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Апарат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 са кондезаторским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електрод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5" descr="Termomed"/>
          <p:cNvPicPr/>
          <p:nvPr/>
        </p:nvPicPr>
        <p:blipFill>
          <a:blip r:embed="rId1"/>
          <a:stretch/>
        </p:blipFill>
        <p:spPr>
          <a:xfrm>
            <a:off x="3352680" y="1828800"/>
            <a:ext cx="28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209680" y="420840"/>
            <a:ext cx="48769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5943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Кондензаторско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н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ва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чињен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х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ожен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ки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учук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b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4" descr="Termomed"/>
          <p:cNvPicPr/>
          <p:nvPr/>
        </p:nvPicPr>
        <p:blipFill>
          <a:blip r:embed="rId1"/>
          <a:srcRect l="0" t="0" r="0" b="21429"/>
          <a:stretch/>
        </p:blipFill>
        <p:spPr>
          <a:xfrm>
            <a:off x="7153200" y="0"/>
            <a:ext cx="1990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932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полар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полар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љк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њ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к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716292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Б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д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з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магнетно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поље</a:t>
            </a:r>
            <a:r>
              <a:rPr b="0" lang="sr-Latn-C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бољ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с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ј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мишић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ок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њ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органа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убин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изостај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208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а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лем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електроде</a:t>
            </a:r>
            <a:r>
              <a:rPr b="1" lang="sv-SE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мотај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мештен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ућишт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ављај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14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8,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7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ипл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б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ндукцион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бл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л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вод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ксијалн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бел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2-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ожен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мотавањ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тремитет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ликациј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љоснатог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пецијал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илца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влац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8" name="Picture 4" descr="KTD monoda"/>
          <p:cNvPicPr/>
          <p:nvPr/>
        </p:nvPicPr>
        <p:blipFill>
          <a:blip r:embed="rId1"/>
          <a:srcRect l="0" t="53904" r="0" b="0"/>
          <a:stretch/>
        </p:blipFill>
        <p:spPr>
          <a:xfrm>
            <a:off x="6811920" y="1981080"/>
            <a:ext cx="2332080" cy="2057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KTD solenoid"/>
          <p:cNvPicPr/>
          <p:nvPr/>
        </p:nvPicPr>
        <p:blipFill>
          <a:blip r:embed="rId2"/>
          <a:stretch/>
        </p:blipFill>
        <p:spPr>
          <a:xfrm>
            <a:off x="6172200" y="6010200"/>
            <a:ext cx="2971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укциони кабл (магнетно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2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81680" cy="60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ложај електро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 супротних страна-дубљи ефекат,са исте стране тела-површински ефека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За дубље дејство на 3-4 цм од површине коже, за површно дејство на  1 цм од површине кож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мпулсна 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ристи кратке таласе 27,12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миту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уз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ворена топлота одводи циркулациј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арно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лов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водни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вар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кож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ијента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ипол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ПАЦИТИВ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магнет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ј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укоо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крвљени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гијама,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м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чини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гревањ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д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астојањ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Schliephake-o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), 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abb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ндукционо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у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8,5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70 W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4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200 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KTD dub"/>
          <p:cNvPicPr/>
          <p:nvPr/>
        </p:nvPicPr>
        <p:blipFill>
          <a:blip r:embed="rId1"/>
          <a:stretch/>
        </p:blipFill>
        <p:spPr>
          <a:xfrm>
            <a:off x="2209680" y="15228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KTD1"/>
          <p:cNvPicPr/>
          <p:nvPr/>
        </p:nvPicPr>
        <p:blipFill>
          <a:blip r:embed="rId1"/>
          <a:srcRect l="0" t="0" r="4409" b="0"/>
          <a:stretch/>
        </p:blipFill>
        <p:spPr>
          <a:xfrm>
            <a:off x="1219320" y="347760"/>
            <a:ext cx="3886200" cy="2487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KTD aplikacija"/>
          <p:cNvPicPr/>
          <p:nvPr/>
        </p:nvPicPr>
        <p:blipFill>
          <a:blip r:embed="rId2"/>
          <a:srcRect l="0" t="0" r="13027" b="0"/>
          <a:stretch/>
        </p:blipFill>
        <p:spPr>
          <a:xfrm>
            <a:off x="1523880" y="3048120"/>
            <a:ext cx="2362320" cy="38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KTD kolena"/>
          <p:cNvPicPr/>
          <p:nvPr/>
        </p:nvPicPr>
        <p:blipFill>
          <a:blip r:embed="rId3"/>
          <a:stretch/>
        </p:blipFill>
        <p:spPr>
          <a:xfrm>
            <a:off x="4876920" y="2365200"/>
            <a:ext cx="4267080" cy="4240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KTD dub2"/>
          <p:cNvPicPr/>
          <p:nvPr/>
        </p:nvPicPr>
        <p:blipFill>
          <a:blip r:embed="rId4"/>
          <a:stretch/>
        </p:blipFill>
        <p:spPr>
          <a:xfrm>
            <a:off x="5181480" y="380880"/>
            <a:ext cx="381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изаци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572000" y="2171880"/>
            <a:ext cx="4233960" cy="25146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KTD monoda"/>
          <p:cNvPicPr/>
          <p:nvPr/>
        </p:nvPicPr>
        <p:blipFill>
          <a:blip r:embed="rId1"/>
          <a:stretch/>
        </p:blipFill>
        <p:spPr>
          <a:xfrm>
            <a:off x="3587760" y="304920"/>
            <a:ext cx="3035160" cy="5790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KTD monoda rame i lice"/>
          <p:cNvPicPr/>
          <p:nvPr/>
        </p:nvPicPr>
        <p:blipFill>
          <a:blip r:embed="rId2"/>
          <a:stretch/>
        </p:blipFill>
        <p:spPr>
          <a:xfrm>
            <a:off x="0" y="304920"/>
            <a:ext cx="5029200" cy="2419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KTD potkolenica"/>
          <p:cNvPicPr/>
          <p:nvPr/>
        </p:nvPicPr>
        <p:blipFill>
          <a:blip r:embed="rId3"/>
          <a:stretch/>
        </p:blipFill>
        <p:spPr>
          <a:xfrm>
            <a:off x="0" y="2743200"/>
            <a:ext cx="21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Примен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КТД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лечењ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стерилит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7880" y="2286000"/>
            <a:ext cx="768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ормон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куша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шта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лод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во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ш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иљ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иг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перем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во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рлице, чи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г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в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премљ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имулис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95" name="Content Placeholder 3" descr="ktd pac2.jpg"/>
          <p:cNvPicPr/>
          <p:nvPr/>
        </p:nvPicPr>
        <p:blipFill>
          <a:blip r:embed="rId1"/>
          <a:stretch/>
        </p:blipFill>
        <p:spPr>
          <a:xfrm>
            <a:off x="1785960" y="380880"/>
            <a:ext cx="6367320" cy="55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ндоге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опло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2343240" y="2171880"/>
            <a:ext cx="42098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и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јатерми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рш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200b5b"/>
                </a:solidFill>
                <a:latin typeface="Times New Roman"/>
              </a:rPr>
              <a:t>ватим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ксимал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нос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ређ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бјектив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олесника-треб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јат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термичк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какв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лиготермичк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д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очљи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мичка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јатна 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хипертермичк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ак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28840" y="4266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5-3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1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ж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ред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нск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генерати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нзглоб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уматизм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з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миси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инеколош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специфич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ерилите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Л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нуситис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олош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итис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ршких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п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ућ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еури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бсц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нтибиотск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runkuli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rbunculi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кло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варењ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равидите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Б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ремећа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нзибилите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раж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клуз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ртериј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ер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пре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луш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ара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тет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лаг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ЕУ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СТОРИЈ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крш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дирива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ак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о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ез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јтан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у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мер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Мере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предострожност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ацијен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објас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ок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ан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сет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ме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ред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евиз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: "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јач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маж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"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везу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елецтрод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апаратом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мора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ме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кршта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одиривати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од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рачун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икључних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одируј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л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ацијент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Неофарадска</a:t>
            </a:r>
            <a:r>
              <a:rPr b="1" lang="sv-SE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2438280" y="2438280"/>
            <a:ext cx="5791320" cy="1919520"/>
            <a:chOff x="2438280" y="2438280"/>
            <a:chExt cx="5791320" cy="1919520"/>
          </a:xfrm>
        </p:grpSpPr>
        <p:sp>
          <p:nvSpPr>
            <p:cNvPr id="164" name="Line 5"/>
            <p:cNvSpPr/>
            <p:nvPr/>
          </p:nvSpPr>
          <p:spPr>
            <a:xfrm>
              <a:off x="2468160" y="4321440"/>
              <a:ext cx="57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684320" y="3060720"/>
              <a:ext cx="24264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6625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2683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V="1">
              <a:off x="2438280" y="2438280"/>
              <a:ext cx="0" cy="19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1600200" y="4648320"/>
            <a:ext cx="678168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</a:t>
            </a:r>
            <a:r>
              <a:rPr b="1" lang="sr-C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неофарадска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уз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20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ијагностичк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врх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Ултра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09880" cy="487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наста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генератор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с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агнетроном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од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100-500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фреквенциј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433,92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талас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дужи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69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ц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вољни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агрева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с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ишић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знос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4:1,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Т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однос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9:1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лектрод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вид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ефлектор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ож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мат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азличито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љ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ксималн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доз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200 W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76920"/>
          </a:xfrm>
          <a:prstGeom prst="rect">
            <a:avLst/>
          </a:prstGeom>
          <a:solidFill>
            <a:srgbClr val="bbca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зулт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онверзи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лектромагнетских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алас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рв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удов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пиларног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д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уј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3-10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ут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ењ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кон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држ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колик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дан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словљен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ам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г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импатиколитич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то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Базал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овећ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ссе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)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мунолошк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наг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рганизм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икр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72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електромагнетске радијације високе фреквенције и мале таласне дужине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Фреквенција с 2.000-18.000 МХз,  таласна дужина 15,0-1,67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У терапијским апаратима се користи фреквенција 2.450 МХз и таласна дужина од 12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3760" y="1142640"/>
            <a:ext cx="3809880" cy="571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снов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имар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ов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рганиза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твар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ендоге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зраче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ел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одорнос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рак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5 </a:t>
            </a:r>
            <a:r>
              <a:rPr b="1" lang="sr-CS" sz="2400" spc="-1" strike="noStrike">
                <a:solidFill>
                  <a:srgbClr val="200b5b"/>
                </a:solidFill>
                <a:latin typeface="Times New Roman"/>
              </a:rPr>
              <a:t>цм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з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разлог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убљ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оложе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ретират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генс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начајан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иск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коефицијен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бсорпци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днос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1:1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АТИЧ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ЦИТЕ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анклинизациј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тич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иците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исо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п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рх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вљ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чи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0,5 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електриса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говар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га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х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аткотрај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соконстрик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ише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брз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лик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ш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sv-SE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нерв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sr-CS" sz="36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71600" y="2971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мпулси</a:t>
            </a:r>
            <a:r>
              <a:rPr b="1" lang="sr-Latn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кети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о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а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0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4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12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њива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нављ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у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дн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666880" y="1905120"/>
            <a:ext cx="4270320" cy="882360"/>
            <a:chOff x="2666880" y="1905120"/>
            <a:chExt cx="4270320" cy="882360"/>
          </a:xfrm>
        </p:grpSpPr>
        <p:sp>
          <p:nvSpPr>
            <p:cNvPr id="173" name="Line 5"/>
            <p:cNvSpPr/>
            <p:nvPr/>
          </p:nvSpPr>
          <p:spPr>
            <a:xfrm>
              <a:off x="2666880" y="2671920"/>
              <a:ext cx="427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 flipV="1">
              <a:off x="2682000" y="190512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28267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3261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336960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14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6590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51429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11616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29714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5251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536004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55047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561348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57218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5034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С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апиј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2-2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 имп 50-500 микросекунд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блици: конвенционал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личан акупунктур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 салв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дулиса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ate control"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ор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рат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ups gelatinosi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едњ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огов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ичме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ождин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мпетициј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танк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бел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рвн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лакан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А бета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/А делта и 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GABA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чи пренос болних сигнала на ћелије у 5.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ламини к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. ,,затвара врата,, 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задњим рогов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Info</cp:lastModifiedBy>
  <dcterms:modified xsi:type="dcterms:W3CDTF">2018-11-03T18:30:16Z</dcterms:modified>
  <cp:revision>48</cp:revision>
  <dc:subject/>
  <dc:title>NAIZMENIČNE STRUJE</dc:title>
</cp:coreProperties>
</file>